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1.xml.rels" ContentType="application/vnd.openxmlformats-package.relationships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13.wmf" ContentType="image/x-wmf"/>
  <Override PartName="/ppt/media/image9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29.wmf" ContentType="image/x-wmf"/>
  <Override PartName="/ppt/media/image5.wmf" ContentType="image/x-wmf"/>
  <Override PartName="/ppt/media/image28.wmf" ContentType="image/x-wmf"/>
  <Override PartName="/ppt/media/image4.jpeg" ContentType="image/jpeg"/>
  <Override PartName="/ppt/media/image25.png" ContentType="image/png"/>
  <Override PartName="/ppt/media/image3.jpeg" ContentType="image/jpeg"/>
  <Override PartName="/ppt/media/image2.wmf" ContentType="image/x-wmf"/>
  <Override PartName="/ppt/media/image27.wmf" ContentType="image/x-wmf"/>
  <Override PartName="/ppt/media/image1.jpeg" ContentType="image/jpeg"/>
  <Override PartName="/ppt/media/image15.wmf" ContentType="image/x-wmf"/>
  <Override PartName="/ppt/media/image26.wmf" ContentType="image/x-wmf"/>
  <Override PartName="/ppt/media/image14.wmf" ContentType="image/x-wmf"/>
  <Override PartName="/ppt/media/image24.png" ContentType="image/png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7F794-01A6-43CD-9868-B6A00FB698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97182-C5B0-4BD6-9BFE-DC90B258778D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1061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8" descr="LOGO"/>
          <p:cNvPicPr/>
          <p:nvPr/>
        </p:nvPicPr>
        <p:blipFill>
          <a:blip r:embed="rId2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9.wmf"/><Relationship Id="rId1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wmf"/><Relationship Id="rId5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wmf"/><Relationship Id="rId5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062000"/>
            <a:ext cx="8229600" cy="524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грисане академске студије фармације</a:t>
            </a:r>
            <a:br>
              <a:rPr sz="2800"/>
            </a:br>
            <a:r>
              <a:rPr b="0" lang="sr-C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И21 Бионеорганска хемија</a:t>
            </a:r>
            <a:br>
              <a:rPr sz="2800"/>
            </a:br>
            <a:br>
              <a:rPr sz="2800"/>
            </a:b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ф. др Гордана П. Радић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457200" y="1071720"/>
            <a:ext cx="8229600" cy="574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кон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вог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крић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огобројн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раживањ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мерен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нтез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итивањ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ханизм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титуморск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ивност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гих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ти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иљ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вих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раживањ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о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нађ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в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тин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ј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ћ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ат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ћ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титуморск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ивност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ир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ктар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ловањ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њ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ксичност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ос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исплатин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ћин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д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итаних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тин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ј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азал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говарајућ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титуморск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ивност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г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двојит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едећ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једничк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н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актеристик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457200" y="1071720"/>
            <a:ext cx="8229600" cy="574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и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утрални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s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омери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олошки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ивни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к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ометријски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омери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азују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титуморну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ивност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и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лог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жи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њеници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и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тно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ктивнији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осу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говарајуће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s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омере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i="1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[PtCl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NH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дролизује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тири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т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же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осу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s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омер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његов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ктивност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му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тно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ћ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и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тине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V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ође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азују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титуморску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ивност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што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и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тине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ње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ктивни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тине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тпостављ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му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лази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дукције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t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t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оћу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пстанци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дукционим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актеристикам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о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то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омолекули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олном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ом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-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скорбинск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селин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и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тине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ојој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и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рају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ати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абилн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јонск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нодентатн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ганд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о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то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</a:t>
            </a:r>
            <a:r>
              <a:rPr b="0" lang="sl-SI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дан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абилан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дентатни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ганд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р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лонатни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428760" y="4286160"/>
            <a:ext cx="8229600" cy="25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и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s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боксилатним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јонским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гандима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салатни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лонатни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ло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ивни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ље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ворни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ње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ксични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и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етероцикличним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зот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орским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гандима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ридин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идазол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азују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тну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титуморну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ивност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3" descr="035.jpg"/>
          <p:cNvPicPr/>
          <p:nvPr/>
        </p:nvPicPr>
        <p:blipFill>
          <a:blip r:embed="rId1"/>
          <a:stretch/>
        </p:blipFill>
        <p:spPr>
          <a:xfrm>
            <a:off x="5715000" y="789120"/>
            <a:ext cx="2773440" cy="3217680"/>
          </a:xfrm>
          <a:prstGeom prst="rect">
            <a:avLst/>
          </a:prstGeom>
          <a:ln w="0">
            <a:noFill/>
          </a:ln>
        </p:spPr>
      </p:pic>
      <p:sp>
        <p:nvSpPr>
          <p:cNvPr id="65" name="TextBox 4"/>
          <p:cNvSpPr/>
          <p:nvPr/>
        </p:nvSpPr>
        <p:spPr>
          <a:xfrm>
            <a:off x="428760" y="1071720"/>
            <a:ext cx="5072040" cy="30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 algn="just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д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минских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а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тине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титуморна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ивност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мањује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зу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H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gt;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NH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gt;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H &gt;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осно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мински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ганд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ра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едовати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јмање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дну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-H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зу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ја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а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жну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логу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ђење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доничне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зе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датну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билизацију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а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457200" y="1071720"/>
            <a:ext cx="8229600" cy="574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ед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титуморских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тин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ј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н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ул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говарај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тходним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им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зв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ичн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титуморск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тин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ој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тин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ј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класичних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тин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ј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азуј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ређен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титуморск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ивност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ојој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ступај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ведених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2" descr="036.jpg"/>
          <p:cNvPicPr/>
          <p:nvPr/>
        </p:nvPicPr>
        <p:blipFill>
          <a:blip r:embed="rId1"/>
          <a:stretch/>
        </p:blipFill>
        <p:spPr>
          <a:xfrm>
            <a:off x="2214720" y="3494160"/>
            <a:ext cx="4357440" cy="336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457200" y="999720"/>
            <a:ext cx="8229600" cy="581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гу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нерацију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титуморских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t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не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и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боплатин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даплатин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ениплатин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нлоплатин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K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1, 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973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ги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јој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и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сто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абилних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лоро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ганад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ази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дентатни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ганд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пут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,1-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иклобутилдикарбоксилат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иколат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боплатина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осу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исплатину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ед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ће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ворљивости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азује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ње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фротоксично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ловање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чењу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е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зирати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тно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ћим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центрацијама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то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приноси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фикасности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чења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проплатина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а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њу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ксичност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и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жалост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ло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граничен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ктар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титуморског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ловања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нас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бог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га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ази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к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гој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зи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иничког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итивања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салиплатина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маплатина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ликом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стирања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вотињама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су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азали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ређену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истентност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ловања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актеристичну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исплатину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ед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га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азују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тно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ње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фротоксично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јство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457200" y="1071720"/>
            <a:ext cx="8229600" cy="574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боплатина                     Ипроплатина                Лабоплати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салиплатина                         Мален, ЈМ-40               Ормаплати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ениплати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М-221                                        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WA-2114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Object 2"/>
          <p:cNvGraphicFramePr/>
          <p:nvPr/>
        </p:nvGraphicFramePr>
        <p:xfrm>
          <a:off x="1428840" y="928800"/>
          <a:ext cx="6030720" cy="1466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28840" y="928800"/>
                    <a:ext cx="6030720" cy="146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" name="Object 3"/>
          <p:cNvGraphicFramePr/>
          <p:nvPr/>
        </p:nvGraphicFramePr>
        <p:xfrm>
          <a:off x="1428840" y="2643120"/>
          <a:ext cx="5984640" cy="1406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3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28840" y="2643120"/>
                    <a:ext cx="5984640" cy="140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" name="Object 8"/>
          <p:cNvGraphicFramePr/>
          <p:nvPr/>
        </p:nvGraphicFramePr>
        <p:xfrm>
          <a:off x="539640" y="4365720"/>
          <a:ext cx="2960640" cy="1466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5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9640" y="4365720"/>
                    <a:ext cx="2960640" cy="146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Object 9"/>
          <p:cNvGraphicFramePr/>
          <p:nvPr/>
        </p:nvGraphicFramePr>
        <p:xfrm>
          <a:off x="3492360" y="4365720"/>
          <a:ext cx="2265480" cy="2211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7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492360" y="4365720"/>
                    <a:ext cx="2265480" cy="22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8" name="Object 10"/>
          <p:cNvGraphicFramePr/>
          <p:nvPr/>
        </p:nvGraphicFramePr>
        <p:xfrm>
          <a:off x="6156360" y="4581360"/>
          <a:ext cx="2232000" cy="14986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79" name="Object 10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156360" y="4581360"/>
                    <a:ext cx="2232000" cy="149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457200" y="1071720"/>
            <a:ext cx="8229600" cy="574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ћу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нерацију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титуморских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тин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ј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ћином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аз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клиничком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итивању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н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уобичајеном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ом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осно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ометријском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ом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инуклеарн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ск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ј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ом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ставу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држ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ган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симетричним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гљениковим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томом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2400"/>
            </a:b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,2-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аминциклохексаном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C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ертним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гандом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логу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лазећих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ганад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гу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ат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лфат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лонат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г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062000"/>
            <a:ext cx="8229600" cy="8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чин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зирањ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исплатин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гих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титуморских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ти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999800"/>
            <a:ext cx="8229600" cy="481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исплатине</a:t>
            </a:r>
            <a:r>
              <a:rPr b="0" i="1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јчешће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носи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равенск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вор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исплатине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зира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меши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вором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aCl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иолошке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центрације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тријум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лорид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речава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дролизу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а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тине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могућава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то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ћа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центрација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а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промењене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е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ђе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олеле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ћелије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ло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сто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исплатина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је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бинацији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гим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ковима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о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то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нбластин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еом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ин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дриамицин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бинацији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диотерапијом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то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азало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ло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фикасно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чењу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умора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стиса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457200" y="999720"/>
            <a:ext cx="8229600" cy="581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тврђено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ођ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ш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½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истостатик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мах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кон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ношењ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зуј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птид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теин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вн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зм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ксично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ловањ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исплатин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зиром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редн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фект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исплатин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талих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тин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(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фротоксичност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уротоксичност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.)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кон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узиј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исплатин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м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ш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рвал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нос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ћ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ичин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д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једно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мотским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уретицим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D-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нинитол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– </a:t>
            </a:r>
            <a:r>
              <a:rPr b="1" i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А</a:t>
            </a:r>
            <a:r>
              <a:rPr b="1" i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ДРАТАЦИЈЕ</a:t>
            </a:r>
            <a:r>
              <a:rPr b="1" i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72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титуморско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јство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ти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714680"/>
            <a:ext cx="8229600" cy="509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умор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цес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контролисаног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а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ћелија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ханизам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титуморског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јства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а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тине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стоји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њиховом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зивању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лекуле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НК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му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речава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пликација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анскрипција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НК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им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м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нтеза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ћелије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ђутим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мента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ношења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кова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м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њиховог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зивања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лекуле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НК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лази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ликог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оја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редних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цеса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ји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говорни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јаву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ксичних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феката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328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. Комплекси пл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нске групе мета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214200" y="642600"/>
            <a:ext cx="340056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0" lang="sl-SI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зиром</a:t>
            </a:r>
            <a:r>
              <a:rPr b="0" lang="sl-SI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</a:t>
            </a:r>
            <a:r>
              <a:rPr b="0" lang="sl-SI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</a:t>
            </a:r>
            <a:r>
              <a:rPr b="0" lang="sl-SI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центрација</a:t>
            </a:r>
            <a:r>
              <a:rPr b="0" lang="sl-SI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</a:t>
            </a:r>
            <a:r>
              <a:rPr b="0" lang="sl-SI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l-SI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она</a:t>
            </a:r>
            <a:r>
              <a:rPr b="0" lang="sl-SI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l-SI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кстрацелуларној</a:t>
            </a:r>
            <a:r>
              <a:rPr b="0" lang="sl-SI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чности</a:t>
            </a:r>
            <a:r>
              <a:rPr b="0" lang="sl-SI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о</a:t>
            </a:r>
            <a:r>
              <a:rPr b="0" lang="sl-SI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04 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M,</a:t>
            </a:r>
            <a:r>
              <a:rPr b="0" lang="sl-SI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sl-SI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l-SI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рацелуларној</a:t>
            </a:r>
            <a:r>
              <a:rPr b="0" lang="sl-SI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о</a:t>
            </a:r>
            <a:r>
              <a:rPr b="0" lang="sl-SI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4 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M</a:t>
            </a:r>
            <a:r>
              <a:rPr b="0" lang="sl-SI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дролиза</a:t>
            </a:r>
            <a:r>
              <a:rPr b="0" lang="sl-SI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исплатине</a:t>
            </a:r>
            <a:r>
              <a:rPr b="0" lang="sl-SI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</a:t>
            </a:r>
            <a:r>
              <a:rPr b="0" lang="sl-SI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цес</a:t>
            </a:r>
            <a:r>
              <a:rPr b="0" lang="sl-SI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ји</a:t>
            </a:r>
            <a:r>
              <a:rPr b="0" lang="sl-SI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а</a:t>
            </a:r>
            <a:r>
              <a:rPr b="0" lang="sl-SI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жну</a:t>
            </a:r>
            <a:r>
              <a:rPr b="0" lang="sl-SI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логу</a:t>
            </a:r>
            <a:r>
              <a:rPr b="0" lang="sl-SI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l-SI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ханизму</a:t>
            </a:r>
            <a:r>
              <a:rPr b="0" lang="sl-SI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његовог</a:t>
            </a:r>
            <a:r>
              <a:rPr b="0" lang="sl-SI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ловања</a:t>
            </a:r>
            <a:r>
              <a:rPr b="0" lang="sl-SI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тале</a:t>
            </a:r>
            <a:r>
              <a:rPr b="0" lang="sl-SI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ва</a:t>
            </a:r>
            <a:r>
              <a:rPr b="0" lang="sl-SI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лоро</a:t>
            </a:r>
            <a:r>
              <a:rPr b="0" lang="sl-SI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стице</a:t>
            </a:r>
            <a:r>
              <a:rPr b="0" lang="sl-SI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</a:t>
            </a:r>
            <a:r>
              <a:rPr b="0" lang="sl-SI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ктивније</a:t>
            </a:r>
            <a:r>
              <a:rPr b="0" lang="sl-SI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</a:t>
            </a:r>
            <a:r>
              <a:rPr b="0" lang="sl-SI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вобитног</a:t>
            </a:r>
            <a:r>
              <a:rPr b="0" lang="sl-SI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лоро</a:t>
            </a:r>
            <a:r>
              <a:rPr b="0" lang="sl-SI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а</a:t>
            </a:r>
            <a:r>
              <a:rPr b="0" lang="sl-SI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име</a:t>
            </a:r>
            <a:r>
              <a:rPr b="0" lang="sl-SI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титуморски</a:t>
            </a:r>
            <a:r>
              <a:rPr b="0" lang="sl-SI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и</a:t>
            </a:r>
            <a:r>
              <a:rPr b="0" lang="sl-SI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тине</a:t>
            </a:r>
            <a:r>
              <a:rPr b="0" lang="sl-SI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</a:t>
            </a:r>
            <a:r>
              <a:rPr b="0" lang="sl-SI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меју</a:t>
            </a:r>
            <a:r>
              <a:rPr b="0" lang="sl-SI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ти</a:t>
            </a:r>
            <a:r>
              <a:rPr b="0" lang="sl-SI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</a:t>
            </a:r>
            <a:r>
              <a:rPr b="0" lang="sl-SI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више</a:t>
            </a:r>
            <a:r>
              <a:rPr b="0" lang="sl-SI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ктивни</a:t>
            </a:r>
            <a:r>
              <a:rPr b="0" lang="sl-SI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</a:t>
            </a:r>
            <a:r>
              <a:rPr b="0" lang="sl-SI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више</a:t>
            </a:r>
            <a:r>
              <a:rPr b="0" lang="sl-SI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ертни</a:t>
            </a:r>
            <a:r>
              <a:rPr b="0" lang="sl-SI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р</a:t>
            </a:r>
            <a:r>
              <a:rPr b="0" lang="sl-SI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</a:t>
            </a:r>
            <a:r>
              <a:rPr b="0" lang="sl-SI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l-SI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l-SI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дном</a:t>
            </a:r>
            <a:r>
              <a:rPr b="0" lang="sl-SI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l-SI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l-SI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гом</a:t>
            </a:r>
            <a:r>
              <a:rPr b="0" lang="sl-SI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учају</a:t>
            </a:r>
            <a:r>
              <a:rPr b="0" lang="sl-SI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њихова</a:t>
            </a:r>
            <a:r>
              <a:rPr b="0" lang="sl-SI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ксичност</a:t>
            </a:r>
            <a:r>
              <a:rPr b="0" lang="sl-SI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ећава</a:t>
            </a:r>
            <a:r>
              <a:rPr b="0" lang="sl-SI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3" descr="slika3 copy"/>
          <p:cNvPicPr/>
          <p:nvPr/>
        </p:nvPicPr>
        <p:blipFill>
          <a:blip r:embed="rId1"/>
          <a:stretch/>
        </p:blipFill>
        <p:spPr>
          <a:xfrm>
            <a:off x="4071960" y="1428840"/>
            <a:ext cx="4711680" cy="3543120"/>
          </a:xfrm>
          <a:prstGeom prst="rect">
            <a:avLst/>
          </a:prstGeom>
          <a:ln w="0">
            <a:noFill/>
          </a:ln>
        </p:spPr>
      </p:pic>
      <p:sp>
        <p:nvSpPr>
          <p:cNvPr id="88" name="TextBox 5"/>
          <p:cNvSpPr/>
          <p:nvPr/>
        </p:nvSpPr>
        <p:spPr>
          <a:xfrm>
            <a:off x="3741840" y="4929120"/>
            <a:ext cx="53751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</a:t>
            </a:r>
            <a:r>
              <a:rPr b="0" lang="sl-SI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ге</a:t>
            </a:r>
            <a:r>
              <a:rPr b="0" lang="sl-SI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ане</a:t>
            </a:r>
            <a:r>
              <a:rPr b="0" lang="sl-SI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тна</a:t>
            </a:r>
            <a:r>
              <a:rPr b="0" lang="sl-SI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актеристика</a:t>
            </a:r>
            <a:r>
              <a:rPr b="0" lang="sl-SI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вих</a:t>
            </a:r>
            <a:r>
              <a:rPr b="0" lang="sl-SI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дињења</a:t>
            </a:r>
            <a:br>
              <a:rPr sz="1600"/>
            </a:br>
            <a:r>
              <a:rPr b="0" lang="sl-SI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ра</a:t>
            </a:r>
            <a:r>
              <a:rPr b="0" lang="sl-SI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ти</a:t>
            </a:r>
            <a:r>
              <a:rPr b="0" lang="sl-SI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лективност</a:t>
            </a:r>
            <a:r>
              <a:rPr b="0" lang="sl-SI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ма</a:t>
            </a:r>
            <a:r>
              <a:rPr b="0" lang="sl-SI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ређеним</a:t>
            </a:r>
            <a:r>
              <a:rPr b="0" lang="sl-SI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омолекулима</a:t>
            </a:r>
            <a:r>
              <a:rPr b="0" lang="sl-SI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дроксо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стице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су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жељне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ј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е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мањују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1600"/>
            </a:b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ивност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а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тине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457200" y="1071720"/>
            <a:ext cx="3471840" cy="574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титуморска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ивност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а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тине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ултат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њиховог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зивања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лекул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НК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венствено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нетску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НК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ја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ази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уклеусу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к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за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тохондријалном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НК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ње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говорна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титуморску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ивност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да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i="1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исплатина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спе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лекула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НК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гућности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ординацију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личите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кон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дролизе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зивање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а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НК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венствено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шава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ко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тома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уанина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к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ње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ступљено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зивање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денина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итозина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Object 5"/>
          <p:cNvGraphicFramePr/>
          <p:nvPr/>
        </p:nvGraphicFramePr>
        <p:xfrm>
          <a:off x="4000680" y="1285920"/>
          <a:ext cx="4724280" cy="438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00680" y="1285920"/>
                    <a:ext cx="4724280" cy="438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57200" y="999720"/>
            <a:ext cx="8229600" cy="581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зиром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лекул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НК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ојим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ментарним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иралним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ама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држи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личиту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квенцу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ринских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римиднинских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за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тановљено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%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ступљен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ординациј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п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,2-(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pG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осно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з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ко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лекул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уанозин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5'-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нофосфат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ји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азе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протним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анцим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НК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о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5%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ступљен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з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п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,2-(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G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ј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з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денозин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5'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нофосфатом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уанозин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5'-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нофосфатом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мештеним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протним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НК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анцим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тали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чини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зивањ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нофункционално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зивање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зе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п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,3-(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pG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зе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ко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уанозин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мештених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ом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анцу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лекул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НК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тд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)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ње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ступљени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457200" y="1071720"/>
            <a:ext cx="8229600" cy="574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нутк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ношењ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м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титуморских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генас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зи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тине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ко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цес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дролизе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њиховог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ординовањ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лекул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НК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и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тине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гу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гују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гим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омолекулим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ракције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о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говорне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јаву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ксичних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фекат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t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о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к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селин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едује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лики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финитет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м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ким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зам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мпор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ад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у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ких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з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ступљен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теиним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ји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ом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ставу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држе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минокиселине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истеин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ионин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о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ултат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г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ординовање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тине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птидим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теиним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ји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ом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ставу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држе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мпор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зимајући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зир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центрациј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ол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ључујућу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истеин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утатион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рацелуларној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чности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о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0 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M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тпостављ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титуморски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генси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зи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тине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во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гују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лекулим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ји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држе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мпор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кон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г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лази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ањ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модинамички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билнијих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t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НК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дињењ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360" y="134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ракције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тине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II)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мпор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зивним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гандим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ају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гативан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фекат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титуморску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ивност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хибирају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титуморску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ивност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а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тине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II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варају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истентност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ловање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титуморских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азивају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ксично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ловање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а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тине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II) (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фротоксичност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571680" y="121392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д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ракција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омолекулима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ји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држе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мпор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пходно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ликовати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мпор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иче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лекула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ола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оетара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олико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мпор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иче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лекула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оетра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тала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t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оетар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за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е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кинути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суству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лекула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НК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ј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том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уанозин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5'-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нофосфата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е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исне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лекул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оетра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талог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а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олико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мпор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иче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лекула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ола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тала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t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ол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за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ло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ака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раскидива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тала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дињења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узетно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билна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реактивна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пуно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зактивирају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е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тине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овремено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говорна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јаву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ксичних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феката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ође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лекул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ола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е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врши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мену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лекула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оетра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дињења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па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t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(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оетар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ђутим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олико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гради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за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међу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а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тине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лекула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ји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ом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ставу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држе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ол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у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дињења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узетно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билна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рективна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Object 3"/>
          <p:cNvGraphicFramePr/>
          <p:nvPr/>
        </p:nvGraphicFramePr>
        <p:xfrm>
          <a:off x="2500200" y="2071800"/>
          <a:ext cx="4268880" cy="35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0200" y="2071800"/>
                    <a:ext cx="4268880" cy="35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457200" y="1071720"/>
            <a:ext cx="8229600" cy="574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зиром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актеристике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зе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t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оетар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матра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ви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изводи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ервоар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тине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му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осно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годн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рмедијер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кцијам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-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лекул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НК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к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ол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дињењ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пуно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зактивирају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е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тине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ајућ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дињењ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говорн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јаву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ксичних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фекат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чин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лучивања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а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тине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ћелије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шава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кон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ања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ође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ако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билних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дињења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етилдитиокарбаматом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оуреом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тд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457200" y="1071720"/>
            <a:ext cx="8229600" cy="574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-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истеин  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метиони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                                   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аденозил-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хомоцистеин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утатио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Object 2"/>
          <p:cNvGraphicFramePr/>
          <p:nvPr/>
        </p:nvGraphicFramePr>
        <p:xfrm>
          <a:off x="500040" y="1000080"/>
          <a:ext cx="4143240" cy="20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0040" y="1000080"/>
                    <a:ext cx="4143240" cy="20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3" name="Object 3"/>
          <p:cNvGraphicFramePr/>
          <p:nvPr/>
        </p:nvGraphicFramePr>
        <p:xfrm>
          <a:off x="714240" y="4143240"/>
          <a:ext cx="5346720" cy="1290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4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14240" y="4143240"/>
                    <a:ext cx="5346720" cy="12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5" name="Object 4"/>
          <p:cNvGraphicFramePr/>
          <p:nvPr/>
        </p:nvGraphicFramePr>
        <p:xfrm>
          <a:off x="4716360" y="1773360"/>
          <a:ext cx="4213440" cy="2408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6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16360" y="1773360"/>
                    <a:ext cx="4213440" cy="240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72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дућ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раживањ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642680"/>
            <a:ext cx="8229600" cy="517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в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раживањ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вој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ласти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о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мерен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нтези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вих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тине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ј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ће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лективност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м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лекулим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НК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ти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ћ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ед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г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лики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ој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раживањ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нас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зир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итивању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гућности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кидањ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билне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t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ол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зе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оћу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личитих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омолекул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ећал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фикасност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титуморских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генас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ресантн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учавањ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јаве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платинације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лекул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НК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суству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личитих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пстанци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ође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еден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јам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штитних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генас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ји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ају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собност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ање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ксични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фекат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тине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аче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дињењ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мпором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тријум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осулфат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тријум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етилдитиокарбамат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утатион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оуре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истеин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ионин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отин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-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ркаптоетансулфонат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нициламин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др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)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ј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ају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гућност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кидањ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t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оетар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t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НК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зе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узетком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t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1,2-(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pG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зе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457200" y="1071720"/>
            <a:ext cx="8229600" cy="574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ане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гих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учник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итиван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ктивност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ких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нофункционалних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тине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о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енцијалних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титуморских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генас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м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мпор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зивним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лекулим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о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м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ринским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римидинским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зам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уклеотидим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лигонуклеотидим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рагментим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НК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лекул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ође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итиван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лог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нуклерних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t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d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о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енцијалних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титуморских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генас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лик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жњ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већен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ракцијам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теиним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ји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ом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ставу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држе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ед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орских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минокиселине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пут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стидин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утамин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спарагин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иљу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јашњавањ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гућих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ракциј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ћено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о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кцијам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теиним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ји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ојој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квенци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држе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кар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дну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орску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минокиселину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лику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логу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билност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талих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ординованих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извод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ају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рамолекулске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доничне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зе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500040" y="928800"/>
            <a:ext cx="8229600" cy="574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lvl="1" marL="329040" indent="-329040" algn="just">
              <a:lnSpc>
                <a:spcPct val="100000"/>
              </a:lnSpc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оги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цеси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вим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има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гу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вијати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суства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ких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она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ала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29040" indent="-32904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аболиз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29040" indent="-32904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сањ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29040" indent="-32904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тосинте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29040" indent="-32904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29040" indent="-32904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множавањ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29040" indent="-32904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ракција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шића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29040" indent="-32904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дњих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дина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ећано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ресовање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итивање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логе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29040" indent="-32904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ханизма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ловања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она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ала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вим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цесима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29040" indent="-32904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29040" indent="-32904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ласт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емиј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ја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ви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учавањем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логе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енцијалних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кро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29040" indent="-32904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кро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лемената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олошким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има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ната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ен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29040" indent="-32904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онеорганска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емија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29040" indent="-32904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29040" indent="-32904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онеорганска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емија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ви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учавањем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логе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енцијалних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29040" indent="-32904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есенцијалних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лемената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ицини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457200" y="1071720"/>
            <a:ext cx="8229600" cy="574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огобројна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раживања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вој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ласти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ају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иљ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налазак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вих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а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тине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лова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јима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ће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ћ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нати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титуморски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и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тине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ве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ге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ће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нерације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ти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то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фикаснији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з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пходно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видети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гуће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редне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цесе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му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ликом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ношења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енутих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кова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ксичност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истентност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ањила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6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н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дињењ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ладијум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II)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ици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28760" y="1643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sr-Latn-C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лектронске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фигурације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дентично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тини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II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d(II)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и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НЕ</a:t>
            </a:r>
            <a:r>
              <a:rPr b="0" lang="sr-Latn-CS" sz="22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ПОКАЗУЈУ</a:t>
            </a:r>
            <a:r>
              <a:rPr b="0" lang="sr-Latn-CS" sz="22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АНТИТУМОРСКУ</a:t>
            </a:r>
            <a:r>
              <a:rPr b="0" lang="sr-Latn-CS" sz="22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АКТИВНОС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ође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лежу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дролизи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о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и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t(II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р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дињење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огно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боплатини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d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BDCA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(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H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деном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вору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дролизује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о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зо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убећи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минске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ганде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BDCA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ганд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ајући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дроксо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ји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пуно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активан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457200" y="1071720"/>
            <a:ext cx="8229600" cy="574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и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гују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о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0</a:t>
            </a:r>
            <a:r>
              <a:rPr b="0" lang="sr-Latn-CS" sz="3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10</a:t>
            </a:r>
            <a:r>
              <a:rPr b="0" lang="sr-Latn-CS" sz="3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та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же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огних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а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тине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II) </a:t>
            </a:r>
            <a:r>
              <a:rPr b="0" lang="sr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ају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тово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дентично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нашање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емијским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кцијама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ДЕЛИ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учавање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актеристика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а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t(II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њих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дина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итује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титуморско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јство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нуклераних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а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ладијума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II) </a:t>
            </a:r>
            <a:r>
              <a:rPr b="0" lang="sr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тине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II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457200" y="1071720"/>
            <a:ext cx="8229600" cy="574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криће антитуморских особина поменутих комплекса платине повећало је интересовање ка добијању евентуално ефикаснијих комплекса других метала и лиганада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ђу првим комплексима коришћеним у клиничким испитивањима против тумора били су комплекси паладијума(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и то аналози </a:t>
            </a:r>
            <a:r>
              <a:rPr b="0" i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исплатине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s</a:t>
            </a:r>
            <a:r>
              <a:rPr b="0" i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аминдихлоридопаладијум(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s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[PdCl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NH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s</a:t>
            </a:r>
            <a:r>
              <a:rPr b="0" i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,2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амин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иклохександихлоридопаладијум(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</a:t>
            </a:r>
            <a:r>
              <a:rPr b="0" i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2400"/>
            </a:b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s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[PdCl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DACH)]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омплекс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Object 3"/>
          <p:cNvGraphicFramePr/>
          <p:nvPr/>
        </p:nvGraphicFramePr>
        <p:xfrm>
          <a:off x="1258920" y="2205000"/>
          <a:ext cx="2122560" cy="17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2205000"/>
                    <a:ext cx="2122560" cy="17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7" name="Object 5"/>
          <p:cNvGraphicFramePr/>
          <p:nvPr/>
        </p:nvGraphicFramePr>
        <p:xfrm>
          <a:off x="5364000" y="2349360"/>
          <a:ext cx="2895840" cy="1798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8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64000" y="2349360"/>
                    <a:ext cx="2895840" cy="17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" name="Rectangle 5"/>
          <p:cNvSpPr/>
          <p:nvPr/>
        </p:nvSpPr>
        <p:spPr>
          <a:xfrm>
            <a:off x="1476360" y="4365720"/>
            <a:ext cx="6840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s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[PdCl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NH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           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i="1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is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[PdCl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DACH)]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457200" y="999720"/>
            <a:ext cx="8229600" cy="581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ако први резултати нису показали значајну антитуморску активност комплекса паладијума(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ови комплекси су ипак много шире проучаван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главном су комплекси паладијума(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због велике реактивности показивали нижу антитуморску активност од </a:t>
            </a:r>
            <a:r>
              <a:rPr b="0" i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исплатине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457200" y="1125000"/>
            <a:ext cx="8229600" cy="568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матра се да је нижа активност ових комплекса последица јако брзе измене лиганада и немогућности комплекса да непромењене стуктуре стигне до биолошке мете, чиме је повећан ризик од неповољних ефеката на биохемијске процесе у ћелиј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циљу превазилажења оваквих проблема многи аутори су предлагали да се паладијум(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он координује за хелатне лиганде, чиме би се смањила реактивност паладијумовог центра повећавајући стабилност награђеног комплекс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титуморска активност комплекса, односно успех лека, </a:t>
            </a:r>
            <a:r>
              <a:rPr b="0" i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виси и од коришћеног лиганда за координовање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јер од лиганда зависи </a:t>
            </a:r>
            <a:r>
              <a:rPr b="1" i="1" lang="sr-C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реактивност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1" i="1" lang="sr-C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липофилност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као и стабилизовање одређених оксидационих стања метала или могућност супституције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 сада је једина примена паладијума у медицини у лечењу брзорастућег канцера простате и то користећи радиоактивни изотоп </a:t>
            </a:r>
            <a:r>
              <a:rPr b="0" lang="sr-C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103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457200" y="1071720"/>
            <a:ext cx="8229600" cy="574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оје и комплекси паладијума(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који показују активност сличну </a:t>
            </a:r>
            <a:r>
              <a:rPr b="0" i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исплатини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 карбоплатин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 паладијума са лигандом који је дериват кумарина  показује приближно 7800 пута већу активност у односу на </a:t>
            </a:r>
            <a:br>
              <a:rPr sz="3200"/>
            </a:b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боплатину на ћелијама А549,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2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 Тиме је потврђена претпоставка да са волуминознијим лигандима комплекси показују бољу антитуморску активнос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5" name="Object 3"/>
          <p:cNvGraphicFramePr/>
          <p:nvPr/>
        </p:nvGraphicFramePr>
        <p:xfrm>
          <a:off x="2700360" y="1268280"/>
          <a:ext cx="3384360" cy="475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00360" y="1268280"/>
                    <a:ext cx="3384360" cy="475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" name="TextBox 2"/>
          <p:cNvSpPr/>
          <p:nvPr/>
        </p:nvSpPr>
        <p:spPr>
          <a:xfrm>
            <a:off x="1546200" y="6021360"/>
            <a:ext cx="614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а паладијум(II)-комплекса са дериватом кумар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олошка</a:t>
            </a:r>
            <a:r>
              <a:rPr b="0" lang="sr-Latn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ункција</a:t>
            </a:r>
            <a:r>
              <a:rPr b="0" lang="sr-Latn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алних</a:t>
            </a:r>
            <a:r>
              <a:rPr b="0" lang="sr-Latn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о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к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н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дињењ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бинацији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гим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дињењим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ћ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уги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з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дин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исте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ицини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чење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личитих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ољењ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в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ласт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онеорганске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емије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ив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3399ff"/>
                </a:solidFill>
                <a:latin typeface="Times New Roman"/>
                <a:ea typeface="Times New Roman"/>
              </a:rPr>
              <a:t>МЕДИЦИНСКА</a:t>
            </a:r>
            <a:r>
              <a:rPr b="0" lang="sr-Latn-CS" sz="3200" spc="-1" strike="noStrike">
                <a:solidFill>
                  <a:srgbClr val="3399ff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3399ff"/>
                </a:solidFill>
                <a:latin typeface="Times New Roman"/>
                <a:ea typeface="Times New Roman"/>
              </a:rPr>
              <a:t>НЕОРГАНСКА</a:t>
            </a:r>
            <a:r>
              <a:rPr b="0" lang="sr-Latn-CS" sz="3200" spc="-1" strike="noStrike">
                <a:solidFill>
                  <a:srgbClr val="3399ff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3399ff"/>
                </a:solidFill>
                <a:latin typeface="Times New Roman"/>
                <a:ea typeface="Times New Roman"/>
              </a:rPr>
              <a:t>ХЕМИЈ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3399ff"/>
                </a:solidFill>
                <a:latin typeface="Times New Roman"/>
                <a:ea typeface="Times New Roman"/>
              </a:rPr>
              <a:t>ЕЛЕМЕНТАРНА</a:t>
            </a:r>
            <a:r>
              <a:rPr b="0" lang="sr-Latn-CS" sz="3200" spc="-1" strike="noStrike">
                <a:solidFill>
                  <a:srgbClr val="3399ff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3399ff"/>
                </a:solidFill>
                <a:latin typeface="Times New Roman"/>
                <a:ea typeface="Times New Roman"/>
              </a:rPr>
              <a:t>МЕДИЦИ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457200" y="1197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ође је испитиван велики број паладијум(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-комплекса са неутралним лигандима, као што су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ривати пиридин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сфатни деривати хинолина ил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ривати пиразола и тиме је доказана њихова значајна антитуморкса активнос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062000"/>
            <a:ext cx="8229600" cy="71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и паладијума са лигандима edda-тип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" name="Object 1"/>
          <p:cNvGraphicFramePr/>
          <p:nvPr/>
        </p:nvGraphicFramePr>
        <p:xfrm>
          <a:off x="1763640" y="1943280"/>
          <a:ext cx="5329440" cy="3957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2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3640" y="1943280"/>
                    <a:ext cx="5329440" cy="395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062000"/>
            <a:ext cx="8229600" cy="71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и паладијума са лигандима edda-тип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6" name="Object 3"/>
          <p:cNvGraphicFramePr/>
          <p:nvPr/>
        </p:nvGraphicFramePr>
        <p:xfrm>
          <a:off x="1200240" y="2205000"/>
          <a:ext cx="6670440" cy="36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00240" y="2205000"/>
                    <a:ext cx="6670440" cy="36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и паладијума са лигандима edda-тип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0" name="Object 1"/>
          <p:cNvGraphicFramePr/>
          <p:nvPr/>
        </p:nvGraphicFramePr>
        <p:xfrm>
          <a:off x="1476360" y="2421000"/>
          <a:ext cx="5635800" cy="360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421000"/>
                    <a:ext cx="5635800" cy="36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1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591600" cy="287964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4"/>
          <p:cNvSpPr/>
          <p:nvPr/>
        </p:nvSpPr>
        <p:spPr>
          <a:xfrm>
            <a:off x="2195640" y="479736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i="1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TEP</a:t>
            </a:r>
            <a:r>
              <a:rPr b="0" i="1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лика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0" i="1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dCl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r>
              <a:rPr b="0" i="1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i="1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(S,S)-</a:t>
            </a:r>
            <a:r>
              <a:rPr b="0" i="1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ddv)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 </a:t>
            </a:r>
            <a:r>
              <a:rPr b="0" i="1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9640" y="1341360"/>
            <a:ext cx="8229600" cy="78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и паладијума(II) са S-алкил дериватима тиосалицилне кисели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Object 1"/>
          <p:cNvGraphicFramePr/>
          <p:nvPr/>
        </p:nvGraphicFramePr>
        <p:xfrm>
          <a:off x="1042920" y="2924280"/>
          <a:ext cx="7135920" cy="186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2924280"/>
                    <a:ext cx="7135920" cy="186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8" name="Rectangle 5"/>
          <p:cNvSpPr/>
          <p:nvPr/>
        </p:nvSpPr>
        <p:spPr>
          <a:xfrm>
            <a:off x="1187280" y="508464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бензил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метил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етил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пропил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бутил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13" descr=""/>
          <p:cNvPicPr/>
          <p:nvPr/>
        </p:nvPicPr>
        <p:blipFill>
          <a:blip r:embed="rId1"/>
          <a:stretch/>
        </p:blipFill>
        <p:spPr>
          <a:xfrm>
            <a:off x="324000" y="1395360"/>
            <a:ext cx="4103640" cy="2975040"/>
          </a:xfrm>
          <a:prstGeom prst="rect">
            <a:avLst/>
          </a:prstGeom>
          <a:ln w="0">
            <a:noFill/>
          </a:ln>
        </p:spPr>
      </p:pic>
      <p:sp>
        <p:nvSpPr>
          <p:cNvPr id="150" name="Rectangle 4"/>
          <p:cNvSpPr/>
          <p:nvPr/>
        </p:nvSpPr>
        <p:spPr>
          <a:xfrm>
            <a:off x="663840" y="4508640"/>
            <a:ext cx="239508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а комплекса</a:t>
            </a:r>
            <a:br>
              <a:rPr sz="1800"/>
            </a:br>
            <a:r>
              <a:rPr b="0" i="1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Pd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bz-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osal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ru-RU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1" descr="fig 1"/>
          <p:cNvPicPr/>
          <p:nvPr/>
        </p:nvPicPr>
        <p:blipFill>
          <a:blip r:embed="rId2"/>
          <a:stretch/>
        </p:blipFill>
        <p:spPr>
          <a:xfrm>
            <a:off x="4859280" y="2924280"/>
            <a:ext cx="4132440" cy="2535120"/>
          </a:xfrm>
          <a:prstGeom prst="rect">
            <a:avLst/>
          </a:prstGeom>
          <a:ln w="0">
            <a:noFill/>
          </a:ln>
        </p:spPr>
      </p:pic>
      <p:sp>
        <p:nvSpPr>
          <p:cNvPr id="152" name="Rectangle 6"/>
          <p:cNvSpPr/>
          <p:nvPr/>
        </p:nvSpPr>
        <p:spPr>
          <a:xfrm>
            <a:off x="4572000" y="1989000"/>
            <a:ext cx="457200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а комплекса</a:t>
            </a:r>
            <a:br>
              <a:rPr sz="1800"/>
            </a:br>
            <a:r>
              <a:rPr b="0" i="1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Pd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b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osal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ru-RU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72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дијум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ици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714680"/>
            <a:ext cx="8229600" cy="509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74. год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llard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сарадници су открили да комплекс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[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hCl</a:t>
            </a:r>
            <a:r>
              <a:rPr b="0" lang="sr-C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)</a:t>
            </a:r>
            <a:r>
              <a:rPr b="0" lang="sr-C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r>
              <a:rPr b="0" lang="sr-C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где је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= пиридин) показује малу антитуморску активн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ичне особине показују комплекси родијума који уместо пиридина имају етилендиамин, 2,2'-бипиридил или </a:t>
            </a:r>
            <a:br>
              <a:rPr sz="2400"/>
            </a:b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,10-фенантролин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разлику од слабе антитуморске активности ових комплекса њихова бактериолошка активност је веома израже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457200" y="1071720"/>
            <a:ext cx="8229600" cy="574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дијум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шт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ул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r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hX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2400"/>
            </a:b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нодентатн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минск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ганд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X =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јонск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ганд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АЗУЈ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БР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ТИТУМОРСК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ИВНОСТ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д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ређених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ст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умор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i="1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r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[RhCl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NH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                    [RhCl(1,5-COD)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,5-COD = 1,5-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иклооктадие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к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вих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азуј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ћ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титуморск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ивност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исплатин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ређен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ст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умор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Object 3"/>
          <p:cNvGraphicFramePr/>
          <p:nvPr/>
        </p:nvGraphicFramePr>
        <p:xfrm>
          <a:off x="1857240" y="2857680"/>
          <a:ext cx="1785960" cy="1668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57240" y="2857680"/>
                    <a:ext cx="1785960" cy="166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8" name="Object 4"/>
          <p:cNvGraphicFramePr/>
          <p:nvPr/>
        </p:nvGraphicFramePr>
        <p:xfrm>
          <a:off x="4643280" y="3214800"/>
          <a:ext cx="2413080" cy="1203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9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3280" y="3214800"/>
                    <a:ext cx="2413080" cy="120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457200" y="999720"/>
            <a:ext cx="8229600" cy="581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жње</a:t>
            </a:r>
            <a:r>
              <a:rPr b="0" i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едну</a:t>
            </a:r>
            <a:r>
              <a:rPr b="0" i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титуморску</a:t>
            </a:r>
            <a:r>
              <a:rPr b="0" i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ивност</a:t>
            </a:r>
            <a:r>
              <a:rPr b="0" i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азали</a:t>
            </a:r>
            <a:r>
              <a:rPr b="0" i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</a:t>
            </a:r>
            <a:r>
              <a:rPr b="0" i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нуклеарни</a:t>
            </a:r>
            <a:r>
              <a:rPr b="0" i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и</a:t>
            </a:r>
            <a:r>
              <a:rPr b="0" i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дијума</a:t>
            </a:r>
            <a:r>
              <a:rPr b="0" i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II) </a:t>
            </a:r>
            <a:r>
              <a:rPr b="0" i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ја</a:t>
            </a:r>
            <a:r>
              <a:rPr b="0" i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</a:t>
            </a:r>
            <a:r>
              <a:rPr b="0" i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а</a:t>
            </a:r>
            <a:r>
              <a:rPr b="0" i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лично</a:t>
            </a:r>
            <a:r>
              <a:rPr b="0" i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жена</a:t>
            </a:r>
            <a:r>
              <a:rPr b="0" i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i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давна</a:t>
            </a:r>
            <a:r>
              <a:rPr b="0" i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итивања</a:t>
            </a:r>
            <a:r>
              <a:rPr b="0" i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</a:t>
            </a:r>
            <a:r>
              <a:rPr b="0" i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азала</a:t>
            </a:r>
            <a:r>
              <a:rPr b="0" i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</a:t>
            </a:r>
            <a:r>
              <a:rPr b="0" i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ви</a:t>
            </a:r>
            <a:r>
              <a:rPr b="0" i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и</a:t>
            </a:r>
            <a:r>
              <a:rPr b="0" i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хибиторно</a:t>
            </a:r>
            <a:r>
              <a:rPr b="0" i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лују</a:t>
            </a:r>
            <a:r>
              <a:rPr b="0" i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</a:t>
            </a:r>
            <a:r>
              <a:rPr b="0" i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нтезу</a:t>
            </a:r>
            <a:r>
              <a:rPr b="0" i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теина</a:t>
            </a:r>
            <a:r>
              <a:rPr b="0" i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НК</a:t>
            </a:r>
            <a:r>
              <a:rPr b="0" i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i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НК</a:t>
            </a:r>
            <a:r>
              <a:rPr b="0" i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r-Latn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виру</a:t>
            </a:r>
            <a:r>
              <a:rPr b="0" lang="sr-Latn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вог</a:t>
            </a:r>
            <a:r>
              <a:rPr b="0" lang="sr-Latn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мета</a:t>
            </a:r>
            <a:r>
              <a:rPr b="0" lang="sr-Latn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вићемо</a:t>
            </a:r>
            <a:r>
              <a:rPr b="0" lang="sr-Latn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</a:t>
            </a:r>
            <a:r>
              <a:rPr b="0" lang="sr-Latn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учавањем</a:t>
            </a:r>
            <a:r>
              <a:rPr b="0" lang="sr-Latn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олошке</a:t>
            </a:r>
            <a:r>
              <a:rPr b="0" lang="sr-Latn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ункције</a:t>
            </a:r>
            <a:r>
              <a:rPr b="0" lang="sr-Latn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857160" y="2357280"/>
          <a:ext cx="7391520" cy="3937320"/>
        </p:xfrm>
        <a:graphic>
          <a:graphicData uri="http://schemas.openxmlformats.org/drawingml/2006/table">
            <a:tbl>
              <a:tblPr/>
              <a:tblGrid>
                <a:gridCol w="3695760"/>
                <a:gridCol w="3695760"/>
              </a:tblGrid>
              <a:tr h="49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атин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бр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575d1"/>
                    </a:solidFill>
                  </a:tcPr>
                </a:tc>
              </a:tr>
              <a:tr h="49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ладијум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тимон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575d1"/>
                    </a:solidFill>
                  </a:tcPr>
                </a:tc>
              </a:tr>
              <a:tr h="49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дијум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анадијум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575d1"/>
                    </a:solidFill>
                  </a:tcPr>
                </a:tc>
              </a:tr>
              <a:tr h="49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тенијум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ром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575d1"/>
                    </a:solidFill>
                  </a:tcPr>
                </a:tc>
              </a:tr>
              <a:tr h="492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мијум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нган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575d1"/>
                    </a:solidFill>
                  </a:tcPr>
                </a:tc>
              </a:tr>
              <a:tr h="49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ридијум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адолинијум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575d1"/>
                    </a:solidFill>
                  </a:tcPr>
                </a:tc>
              </a:tr>
              <a:tr h="49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ла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575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лај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575d1"/>
                    </a:solidFill>
                  </a:tcPr>
                </a:tc>
              </a:tr>
              <a:tr h="49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изму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575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вожђа и кобал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575d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6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и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тенијум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ици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24000" y="1642680"/>
            <a:ext cx="8362800" cy="517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65.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врђено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тенијум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III)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п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3399ff"/>
                </a:solidFill>
                <a:latin typeface="Times New Roman"/>
                <a:ea typeface="Times New Roman"/>
              </a:rPr>
              <a:t>[</a:t>
            </a:r>
            <a:r>
              <a:rPr b="0" lang="sr-Latn-CS" sz="2800" spc="-1" strike="noStrike">
                <a:solidFill>
                  <a:srgbClr val="3399ff"/>
                </a:solidFill>
                <a:latin typeface="Times New Roman"/>
                <a:ea typeface="Times New Roman"/>
              </a:rPr>
              <a:t>Ru</a:t>
            </a:r>
            <a:r>
              <a:rPr b="0" lang="en-US" sz="2800" spc="-1" strike="noStrike">
                <a:solidFill>
                  <a:srgbClr val="3399ff"/>
                </a:solidFill>
                <a:latin typeface="Times New Roman"/>
                <a:ea typeface="Times New Roman"/>
              </a:rPr>
              <a:t>(</a:t>
            </a:r>
            <a:r>
              <a:rPr b="0" lang="sr-Latn-CS" sz="2800" spc="-1" strike="noStrike">
                <a:solidFill>
                  <a:srgbClr val="3399ff"/>
                </a:solidFill>
                <a:latin typeface="Times New Roman"/>
                <a:ea typeface="Times New Roman"/>
              </a:rPr>
              <a:t>L-L</a:t>
            </a:r>
            <a:r>
              <a:rPr b="0" lang="en-US" sz="2800" spc="-1" strike="noStrike">
                <a:solidFill>
                  <a:srgbClr val="3399ff"/>
                </a:solidFill>
                <a:latin typeface="Times New Roman"/>
                <a:ea typeface="Times New Roman"/>
              </a:rPr>
              <a:t>)</a:t>
            </a:r>
            <a:r>
              <a:rPr b="0" lang="en-US" sz="2800" spc="-1" strike="noStrike" baseline="-25000">
                <a:solidFill>
                  <a:srgbClr val="3399ff"/>
                </a:solidFill>
                <a:latin typeface="Times New Roman"/>
                <a:ea typeface="Times New Roman"/>
              </a:rPr>
              <a:t>3</a:t>
            </a:r>
            <a:r>
              <a:rPr b="0" lang="en-US" sz="2800" spc="-1" strike="noStrike">
                <a:solidFill>
                  <a:srgbClr val="3399ff"/>
                </a:solidFill>
                <a:latin typeface="Times New Roman"/>
                <a:ea typeface="Times New Roman"/>
              </a:rPr>
              <a:t>]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де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-L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дентатн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ган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нантролинско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п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азују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титуморск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ојств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итивањем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минских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[RuCl(NH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Cl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s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[RuCl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NH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Cl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c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[RuCl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NH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ођ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врђен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њихов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титуморск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ивност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ј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ећав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ећањем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ој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лоро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ганад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ординационој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фер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о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c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[RuCl</a:t>
            </a:r>
            <a:r>
              <a:rPr b="0" lang="sr-Latn-C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NH</a:t>
            </a:r>
            <a:r>
              <a:rPr b="0" lang="sr-Latn-C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sr-Latn-C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учају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укемије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388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азао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ћу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ивност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осу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s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[PtCl</a:t>
            </a:r>
            <a:r>
              <a:rPr b="0" lang="sr-Latn-C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NH</a:t>
            </a:r>
            <a:r>
              <a:rPr b="0" lang="sr-Latn-C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sr-Latn-C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ђутим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лики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блем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ни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вог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стављ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његов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б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ворљивост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иолошком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вору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бог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г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кад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је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ао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рмаколошку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ну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ppler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радници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тврдили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и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тенијума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ште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уле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HB)</a:t>
            </a:r>
            <a:r>
              <a:rPr b="0" lang="sr-Latn-C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Cl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lang="sr-Latn-C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Cl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де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стављ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етероцикличну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зу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ају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ако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бре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актеристике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ви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и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учају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укемије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388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ође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азују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љу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ивност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исплатине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3"/>
          <p:cNvSpPr/>
          <p:nvPr/>
        </p:nvSpPr>
        <p:spPr>
          <a:xfrm>
            <a:off x="428760" y="5214960"/>
            <a:ext cx="3504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нутно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азе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зи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клиничког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итивања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умор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огениталног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па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7"/>
          <p:cNvSpPr/>
          <p:nvPr/>
        </p:nvSpPr>
        <p:spPr>
          <a:xfrm>
            <a:off x="4083840" y="5334120"/>
            <a:ext cx="498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о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сто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идазола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отреби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дазол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бија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ји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а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ћу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титуморску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ивност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њу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ксичнос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" name="Object 7"/>
          <p:cNvGraphicFramePr/>
          <p:nvPr/>
        </p:nvGraphicFramePr>
        <p:xfrm>
          <a:off x="642960" y="2571840"/>
          <a:ext cx="2689200" cy="2550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2960" y="2571840"/>
                    <a:ext cx="2689200" cy="255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9" name="Object 8"/>
          <p:cNvGraphicFramePr/>
          <p:nvPr/>
        </p:nvGraphicFramePr>
        <p:xfrm>
          <a:off x="4857840" y="2500200"/>
          <a:ext cx="2762280" cy="2786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0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57840" y="2500200"/>
                    <a:ext cx="2762280" cy="278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457200" y="999720"/>
            <a:ext cx="8229600" cy="581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ханизам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јств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ош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ек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ј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нат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постављ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вој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з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лаз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мен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лоро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ганд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ожају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лекулом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д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гој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з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лаз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кциј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в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лекулом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НК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тенијум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II)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ођ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азал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ако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бр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ин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шен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итивањ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s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ометријских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омер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[RuCl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DMSO)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.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ултат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азал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s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ометријск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омер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вом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учају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азао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љу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титуморску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ивност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457200" y="1268280"/>
            <a:ext cx="8229600" cy="554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и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u(II) </a:t>
            </a:r>
            <a:r>
              <a:rPr b="0" lang="sr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д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јих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дан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лекула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MSO </a:t>
            </a:r>
            <a:r>
              <a:rPr b="0" lang="sr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мењен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идазолом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ође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енцијални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титуморски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генси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ултати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итивања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титуморске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ивности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sr-Latn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-Na[RuCl</a:t>
            </a:r>
            <a:r>
              <a:rPr b="0" i="1" lang="sr-Latn-CS" sz="3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i="1" lang="sr-Latn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DMSO)(Him)] </a:t>
            </a:r>
            <a:r>
              <a:rPr b="0" lang="sr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азали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и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вог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па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едују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sr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видну</a:t>
            </a:r>
            <a:r>
              <a:rPr b="0" i="1" lang="sr-Latn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sr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титуморску</a:t>
            </a:r>
            <a:r>
              <a:rPr b="0" i="1" lang="sr-Latn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sr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ивност</a:t>
            </a:r>
            <a:r>
              <a:rPr b="0" i="1" lang="sr-Latn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95280" y="981000"/>
            <a:ext cx="8229600" cy="50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и</a:t>
            </a:r>
            <a:r>
              <a:rPr b="0" lang="sr-Latn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ридијума</a:t>
            </a:r>
            <a:r>
              <a:rPr b="0" lang="sr-Latn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мијум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7200" y="1642680"/>
            <a:ext cx="8229600" cy="517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лазни мета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ив потиче од латинске речи iris = дуг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Земљиној кори је заступљен у количини од 3∙10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6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јважнији минерал је осмири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мијум и иридијум су метали са највећом густин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и</a:t>
            </a:r>
            <a:r>
              <a:rPr b="0" lang="sr-Latn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ридијума</a:t>
            </a:r>
            <a:r>
              <a:rPr b="0" lang="sr-Latn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мијум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s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rC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тибактеријск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титуморск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ојств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тали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и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ридијум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ако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билни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ертни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и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мијум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ако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ксични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исте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ицини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тинск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а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714680"/>
            <a:ext cx="8229600" cy="509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тинск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ал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хват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лемент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г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ијад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тенијум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дијум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ладијум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ћ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ијад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мијум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ридијум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тин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м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иодног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леменат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ђусобно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ом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ичн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ојим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емијским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ичким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инам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лик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ој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вих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леменат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азао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тибактеријско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титуморско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јство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бог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г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в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дињењ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бил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н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ицин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н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тин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ици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714680"/>
            <a:ext cx="8229600" cy="509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исплатин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титиморск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иван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тин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нтетисан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н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45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д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сенберг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његов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радниц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964.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д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итивал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тицај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лектричног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љ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ктериј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cherichia col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оћу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тинских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лектрод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оњених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во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,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му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тил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sr-C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деоба</a:t>
            </a:r>
            <a:r>
              <a:rPr b="1" i="1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</a:t>
            </a:r>
            <a:r>
              <a:rPr b="1" i="1" lang="sr-C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бактерије</a:t>
            </a:r>
            <a:r>
              <a:rPr b="1" i="1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</a:t>
            </a:r>
            <a:r>
              <a:rPr b="1" i="1" lang="sr-C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заустављен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ње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вија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рмалн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четку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ровал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в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фект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азван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лектричним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љем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сниј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тановљен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варањем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тинских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лектрод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тао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i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[PtC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,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ј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окирао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об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ктер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457200" y="1071720"/>
            <a:ext cx="8229600" cy="574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амминдихлороплатин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комплек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0" i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s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                                        </a:t>
            </a:r>
            <a:r>
              <a:rPr b="0" i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s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лик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титуморск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иван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ив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исплатин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s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DDP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DD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стир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971.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е,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979.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д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ист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емотерапиј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о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итостатик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чењ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јединих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ст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умор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ајник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стис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в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ат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лигних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ољењ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в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ких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лик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цином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ућ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тд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Object 4"/>
          <p:cNvGraphicFramePr/>
          <p:nvPr/>
        </p:nvGraphicFramePr>
        <p:xfrm>
          <a:off x="2000160" y="1714680"/>
          <a:ext cx="4857840" cy="1536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00160" y="1714680"/>
                    <a:ext cx="4857840" cy="15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457200" y="1071720"/>
            <a:ext cx="8229600" cy="574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ђутим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н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вог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емотерапији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води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јаве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ких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нежељених</a:t>
            </a:r>
            <a:r>
              <a:rPr b="0" lang="sr-Latn-CS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ефекат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ксичност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нифестује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о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Нефротоксичнос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Неуротоксичнос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Кардиотоксичнос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Повраћањ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Опадање</a:t>
            </a:r>
            <a:r>
              <a:rPr b="0" lang="sr-Latn-CS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кос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3T19:01:08Z</dcterms:created>
  <dc:creator>User</dc:creator>
  <dc:description/>
  <dc:language>en-US</dc:language>
  <cp:lastModifiedBy>Гордана Радић</cp:lastModifiedBy>
  <dcterms:modified xsi:type="dcterms:W3CDTF">2018-07-29T17:27:15Z</dcterms:modified>
  <cp:revision>136</cp:revision>
  <dc:subject/>
  <dc:title>Slide 1</dc:title>
</cp:coreProperties>
</file>